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470D-AB57-419B-B806-268A1933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25D1-F528-48CB-B90F-92AD0C0A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aqs.org/photos/the-respiratory-system-design-parts-of-the-respiratory-system-245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5F9-E3EB-4F93-B443-509D8530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ldiesroom.org/Note%20Packets/13%20Human%20Other/00%20Human%20Other%20Systems--WHO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ywordsuggests.com/alveoli-gas-exchange-dia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0484-E5F4-4BB6-B171-CAFAEFBBA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B8F2-1DDB-4FB9-9B4B-1B2C171B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simo.com/hemoglobin/anemi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wellness/images/content/tar-lung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305-2292-4492-83F4-12BD9205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E2D-89A4-4409-9F4C-C6234457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Tuberculosis_symptom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457-2EC3-4C50-8BAE-2F548E16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ystic_fibr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7D67-41AB-42A2-8844-C011035C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udsonvalleynewsnetwork.com/2015/03/16/5-killer-of-men-cop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CED-E89A-4005-869B-02675386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a-to-z-guides/understanding-bronchitis-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C6C-1954-42A1-BF99-194FF623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aturalhealthman.blogspot.ca/2012/11/smoking-is-bad-for-lu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6DB-FEE2-48E7-945D-7372886A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ertiesofmatter.si.edu/Air_Hea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5F9-A570-49A8-91DD-55111D73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ubc.ca/noot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B3D-4C40-4062-B803-EA2EF69A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6.grafton.k12.wi.us/ges/teacher/jgirmscheid/Respiratory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: http://www.highlands.edu/academics/divisions/scipe/biology/faculty/hargett/b2122/2122rev3/rspdi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C5F-58B1-4687-9CD1-4F369C09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87BD-DD98-42A4-8848-5DA57E4C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nfluence.crbs.ucsd.edu/display/CS/Cellular+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4003-6A41-4447-AECA-2BC34279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dayifoundout.com/index.php/2011/09/how-fish-gills-wor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2317-A9A8-4887-8B46-46F157B8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ldiesroom.org/Note%20Packets/13%20Human%20Other/00%20Human%20Other%20Systems--WHO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3AB0-664D-45F9-B57C-E91BEA6D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https://www.youtube.com/watch?v=5L3dM3hin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F45-A5A2-475D-B242-86D7D474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ygardnerteaches.blogspot.ca/p/singing-anatomy-breath-vocal-fol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2A0-5F1E-4E7F-A0A6-37735100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stcc.edu/AandP/AP/AP2pages/Units21to23/respiration/volum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517-7137-4361-9E97-8815D3F8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neurologicals.com/index.php?app=ecom&amp;ns=prodshow&amp;ref=BSP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19E-0EA6-47E5-B9F5-D303BF30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957-C8DA-4007-A05B-E3636A2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F72-4F0D-4D18-959D-8AA4F715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99A-BB23-4E8D-BA50-398086AD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476-ED21-4A1A-A1B8-8EA8673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33A-CC4D-43F0-AB41-9F7B1E5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20C-0131-436C-8847-569CCCA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381-B592-486F-AAC1-B661A0C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3CC-C0CD-4B35-8715-4D4BDCA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04-4791-4046-AEF4-3CE9A95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678-77C1-43A6-8131-64D8889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F7B-A77C-404F-9A7A-55FC56E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915-734E-417B-8A82-0059E8E84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1, 10.2, 1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in th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04 Pulmonary Capillary 1"/>
          <p:cNvPicPr/>
          <p:nvPr/>
        </p:nvPicPr>
        <p:blipFill>
          <a:blip r:embed="rId1"/>
          <a:stretch/>
        </p:blipFill>
        <p:spPr>
          <a:xfrm>
            <a:off x="685800" y="2014560"/>
            <a:ext cx="77724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Screen shot 2012-11-04 at 2.39.59 PM.png"/>
          <p:cNvPicPr/>
          <p:nvPr/>
        </p:nvPicPr>
        <p:blipFill>
          <a:blip r:embed="rId1"/>
          <a:srcRect l="-902" t="0" r="-9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emia_icon"/>
          <p:cNvPicPr/>
          <p:nvPr/>
        </p:nvPicPr>
        <p:blipFill>
          <a:blip r:embed="rId1"/>
          <a:stretch/>
        </p:blipFill>
        <p:spPr>
          <a:xfrm>
            <a:off x="1793880" y="1981080"/>
            <a:ext cx="555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760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ord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76px-Tuberculosis_symptoms"/>
          <p:cNvPicPr/>
          <p:nvPr/>
        </p:nvPicPr>
        <p:blipFill>
          <a:blip r:embed="rId1"/>
          <a:stretch/>
        </p:blipFill>
        <p:spPr>
          <a:xfrm>
            <a:off x="1476360" y="609480"/>
            <a:ext cx="619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20px-Blausen_0286_CysticFibrosis"/>
          <p:cNvPicPr/>
          <p:nvPr/>
        </p:nvPicPr>
        <p:blipFill>
          <a:blip r:embed="rId1"/>
          <a:stretch/>
        </p:blipFill>
        <p:spPr>
          <a:xfrm>
            <a:off x="2511360" y="609480"/>
            <a:ext cx="411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OPD-1"/>
          <p:cNvPicPr/>
          <p:nvPr/>
        </p:nvPicPr>
        <p:blipFill>
          <a:blip r:embed="rId1"/>
          <a:stretch/>
        </p:blipFill>
        <p:spPr>
          <a:xfrm>
            <a:off x="1401840" y="609480"/>
            <a:ext cx="63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understanding_bronchitis_basics_bronchitis"/>
          <p:cNvPicPr/>
          <p:nvPr/>
        </p:nvPicPr>
        <p:blipFill>
          <a:blip r:embed="rId1"/>
          <a:stretch/>
        </p:blipFill>
        <p:spPr>
          <a:xfrm>
            <a:off x="2340000" y="609480"/>
            <a:ext cx="446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k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moking bad for lung"/>
          <p:cNvPicPr/>
          <p:nvPr/>
        </p:nvPicPr>
        <p:blipFill>
          <a:blip r:embed="rId1"/>
          <a:stretch/>
        </p:blipFill>
        <p:spPr>
          <a:xfrm>
            <a:off x="1979640" y="1981080"/>
            <a:ext cx="518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compon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s (formaldehyde, benzene, hydrogen cyanid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oxy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ir_components_graph"/>
          <p:cNvPicPr/>
          <p:nvPr/>
        </p:nvPicPr>
        <p:blipFill>
          <a:blip r:embed="rId1"/>
          <a:stretch/>
        </p:blipFill>
        <p:spPr>
          <a:xfrm>
            <a:off x="4648320" y="2778120"/>
            <a:ext cx="3809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igarette-273x300"/>
          <p:cNvPicPr/>
          <p:nvPr/>
        </p:nvPicPr>
        <p:blipFill>
          <a:blip r:embed="rId1"/>
          <a:stretch/>
        </p:blipFill>
        <p:spPr>
          <a:xfrm>
            <a:off x="1727280" y="228600"/>
            <a:ext cx="568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lip_image002"/>
          <p:cNvPicPr/>
          <p:nvPr/>
        </p:nvPicPr>
        <p:blipFill>
          <a:blip r:embed="rId1"/>
          <a:stretch/>
        </p:blipFill>
        <p:spPr>
          <a:xfrm>
            <a:off x="2133720" y="609480"/>
            <a:ext cx="4876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abel this diagram on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ick Google search f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system multiple cho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lots of great interactive quizze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heducation.com/sites/0072421975/student_view0/chapter15/multiple_choice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food molecules is transferred to ATP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ellular_respiration_modified"/>
          <p:cNvPicPr/>
          <p:nvPr/>
        </p:nvPicPr>
        <p:blipFill>
          <a:blip r:embed="rId1"/>
          <a:stretch/>
        </p:blipFill>
        <p:spPr>
          <a:xfrm>
            <a:off x="685800" y="4286160"/>
            <a:ext cx="77724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in Other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video is a great overview of the respiratory system by a teacher in Colorado.  The introduction shows respiration in an earthworm, insects, and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fish-gill-e1315434722918"/>
          <p:cNvPicPr/>
          <p:nvPr/>
        </p:nvPicPr>
        <p:blipFill>
          <a:blip r:embed="rId1"/>
          <a:stretch/>
        </p:blipFill>
        <p:spPr>
          <a:xfrm>
            <a:off x="4495680" y="2262240"/>
            <a:ext cx="42674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01 Respiratory System"/>
          <p:cNvPicPr/>
          <p:nvPr/>
        </p:nvPicPr>
        <p:blipFill>
          <a:blip r:embed="rId1"/>
          <a:stretch/>
        </p:blipFill>
        <p:spPr>
          <a:xfrm>
            <a:off x="1368360" y="1600200"/>
            <a:ext cx="6481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moves from high pressure to low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of thoracic (chest) cavity regulated by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breathing"/>
          <p:cNvPicPr/>
          <p:nvPr/>
        </p:nvPicPr>
        <p:blipFill>
          <a:blip r:embed="rId1"/>
          <a:stretch/>
        </p:blipFill>
        <p:spPr>
          <a:xfrm>
            <a:off x="866880" y="609480"/>
            <a:ext cx="7408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respvol"/>
          <p:cNvPicPr/>
          <p:nvPr/>
        </p:nvPicPr>
        <p:blipFill>
          <a:blip r:embed="rId1"/>
          <a:stretch/>
        </p:blipFill>
        <p:spPr>
          <a:xfrm>
            <a:off x="647640" y="1752480"/>
            <a:ext cx="7770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SPIR spirometer 400"/>
          <p:cNvPicPr/>
          <p:nvPr/>
        </p:nvPicPr>
        <p:blipFill>
          <a:blip r:embed="rId1"/>
          <a:stretch/>
        </p:blipFill>
        <p:spPr>
          <a:xfrm>
            <a:off x="2022480" y="1981080"/>
            <a:ext cx="50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4:18:52Z</dcterms:created>
  <dc:creator>rubina khan</dc:creator>
  <dc:description/>
  <dc:language>en-US</dc:language>
  <cp:lastModifiedBy>rubina khan</cp:lastModifiedBy>
  <dcterms:modified xsi:type="dcterms:W3CDTF">2018-05-31T17:22:43Z</dcterms:modified>
  <cp:revision>52</cp:revision>
  <dc:subject/>
  <dc:title>The Respiratory System</dc:title>
</cp:coreProperties>
</file>